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jeop.wav" ContentType="audio/x-wav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3AF5-C005-4A47-9C31-5AD39560D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D4B3-8472-4312-85AA-30158C916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C006-7865-45B2-9311-F95336D77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5A81-043D-40E8-A6EB-3EA0CFB1E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ACEF5-C27B-4472-832C-409E7FB1C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D862F-32CF-43BD-B75F-994F17642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86C2C-256B-46A4-AB94-36F2E5C3B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4E6E1-FA55-4C22-8FF5-7F2F38F25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678D8-DB63-44C0-AC7F-E880F615C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B5F07-B3B5-459B-A190-500F7E94B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23C4E-CB96-4BB7-93BD-54C88DC7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B5D6-F3FD-48EB-9841-037B30D1A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65144-229F-4D43-AB75-69D5A368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E463D-C82F-47CE-860B-EC34D081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A33F5-64A0-4FAE-B844-8323C0270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DAF58-6725-42E2-9658-5567DA379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7498C-ADB5-42EF-B559-D3937A0B6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A9A8-F959-45A8-9B3C-193BD1735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F3A5-AE8E-42FB-86FE-37D991C49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D921-8762-4043-93B4-144F3D4E5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A018-9A9C-42B0-A8D2-C3B4AEF80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AA86-D467-4D9F-8F99-0C46184C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1A77-1803-407D-B4D3-9CF1D8A8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80D0-34B9-4E11-86F0-7ACBFF54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6DE96-1214-497C-BEE3-CCC87EA858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D2C17-3CF7-4609-A766-E60C661706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4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44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18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48.xml"/><Relationship Id="rId24" Type="http://schemas.openxmlformats.org/officeDocument/2006/relationships/slide" Target="slide20.xml"/><Relationship Id="rId25" Type="http://schemas.openxmlformats.org/officeDocument/2006/relationships/slide" Target="slide30.xml"/><Relationship Id="rId26" Type="http://schemas.openxmlformats.org/officeDocument/2006/relationships/slide" Target="slide40.xml"/><Relationship Id="rId27" Type="http://schemas.openxmlformats.org/officeDocument/2006/relationships/slide" Target="slide50.xml"/><Relationship Id="rId28" Type="http://schemas.openxmlformats.org/officeDocument/2006/relationships/slide" Target="slide52.xml"/><Relationship Id="rId29" Type="http://schemas.openxmlformats.org/officeDocument/2006/relationships/audio" Target="../media/jeop.wav"/><Relationship Id="rId3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MSTIA Jeopardy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1" name="Object 3"/>
          <p:cNvGraphicFramePr/>
          <p:nvPr/>
        </p:nvGraphicFramePr>
        <p:xfrm>
          <a:off x="762120" y="1533600"/>
          <a:ext cx="7775280" cy="463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33600"/>
                    <a:ext cx="777528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 Box 4"/>
          <p:cNvSpPr/>
          <p:nvPr/>
        </p:nvSpPr>
        <p:spPr>
          <a:xfrm>
            <a:off x="902880" y="1542960"/>
            <a:ext cx="138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ving an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n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2362320" y="154296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ivin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ent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3892320" y="154296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5439240" y="154296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bb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045920" y="1533600"/>
            <a:ext cx="112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18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20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22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23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24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25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26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27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28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29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30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31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33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34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47"/>
          <p:cNvSpPr/>
          <p:nvPr/>
        </p:nvSpPr>
        <p:spPr>
          <a:xfrm>
            <a:off x="6770160" y="6324480"/>
            <a:ext cx="198684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8" action="ppaction://hlinksldjump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aving &amp; Prin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380880" y="2065320"/>
            <a:ext cx="7929720" cy="36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 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What format is an outline created in using the Save As comman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.do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.tx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.rt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.ppt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aving &amp; Prin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4"/>
          <p:cNvSpPr/>
          <p:nvPr/>
        </p:nvSpPr>
        <p:spPr>
          <a:xfrm>
            <a:off x="2676600" y="2070000"/>
            <a:ext cx="1634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.rtf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esenta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609480" y="1981080"/>
            <a:ext cx="7194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PowerPoint is a _____ program which allows users to create professional slide show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d Process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sho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entation graphic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esenta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4"/>
          <p:cNvSpPr/>
          <p:nvPr/>
        </p:nvSpPr>
        <p:spPr>
          <a:xfrm>
            <a:off x="1101960" y="2819520"/>
            <a:ext cx="7047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Presentation graphic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esenta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196920" y="1773360"/>
            <a:ext cx="8947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developing a presentation, it is a good rule of thumb to keep the words _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 descriptive and detailed as possib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breviat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a minimum (use the less is more principle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 lengthy as possib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esenta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4"/>
          <p:cNvSpPr/>
          <p:nvPr/>
        </p:nvSpPr>
        <p:spPr>
          <a:xfrm>
            <a:off x="418320" y="2638440"/>
            <a:ext cx="8107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a minimum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use the less is more principle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esenta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4"/>
          <p:cNvSpPr/>
          <p:nvPr/>
        </p:nvSpPr>
        <p:spPr>
          <a:xfrm>
            <a:off x="419040" y="1996920"/>
            <a:ext cx="7900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preparing for a presentation, the best place is start is by_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blishing a ne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alyzing the audie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rmining what is to be includ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ginning to gather inform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esenta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4"/>
          <p:cNvSpPr/>
          <p:nvPr/>
        </p:nvSpPr>
        <p:spPr>
          <a:xfrm>
            <a:off x="1828800" y="2209680"/>
            <a:ext cx="6400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Establishing a need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esenta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4"/>
          <p:cNvSpPr/>
          <p:nvPr/>
        </p:nvSpPr>
        <p:spPr>
          <a:xfrm>
            <a:off x="990720" y="1981080"/>
            <a:ext cx="7010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 that is to be hidden from the audience should be placed in the _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tline pa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es pa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ew pa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s are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esenta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1"/>
          <p:cNvSpPr/>
          <p:nvPr/>
        </p:nvSpPr>
        <p:spPr>
          <a:xfrm>
            <a:off x="3076920" y="3105000"/>
            <a:ext cx="4385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es pane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aving &amp; Prin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380880" y="1523880"/>
            <a:ext cx="8382240" cy="36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file name appears in the _____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 ba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ick Access Toolba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tle ba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u ba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esenta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1"/>
          <p:cNvSpPr/>
          <p:nvPr/>
        </p:nvSpPr>
        <p:spPr>
          <a:xfrm>
            <a:off x="380880" y="1828800"/>
            <a:ext cx="830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w do you hide an unwanted slid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ose delete from the Home Ribb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ve the slide to the bottom and choose to view all other slid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ose Hide from the shortcut menu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s cannot be hidd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Presenta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1"/>
          <p:cNvSpPr/>
          <p:nvPr/>
        </p:nvSpPr>
        <p:spPr>
          <a:xfrm>
            <a:off x="863640" y="2724120"/>
            <a:ext cx="5295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ose Hide from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hortcut menu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lid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380880" y="1992240"/>
            <a:ext cx="8129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s are easily rearranged in the _____ pan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ou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lid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4"/>
          <p:cNvSpPr/>
          <p:nvPr/>
        </p:nvSpPr>
        <p:spPr>
          <a:xfrm>
            <a:off x="2958120" y="2430360"/>
            <a:ext cx="2230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Slides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lid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4"/>
          <p:cNvSpPr/>
          <p:nvPr/>
        </p:nvSpPr>
        <p:spPr>
          <a:xfrm>
            <a:off x="380880" y="2041560"/>
            <a:ext cx="7851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ch methods is typically used to rearrange slide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p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e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g and dro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lid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4"/>
          <p:cNvSpPr/>
          <p:nvPr/>
        </p:nvSpPr>
        <p:spPr>
          <a:xfrm>
            <a:off x="1913040" y="2209680"/>
            <a:ext cx="4836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g and drop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lid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4"/>
          <p:cNvSpPr/>
          <p:nvPr/>
        </p:nvSpPr>
        <p:spPr>
          <a:xfrm>
            <a:off x="380880" y="1762200"/>
            <a:ext cx="8256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_____ is the default view in Microsoft PowerPoint 2010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tlin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es Pa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Sho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lid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4"/>
          <p:cNvSpPr/>
          <p:nvPr/>
        </p:nvSpPr>
        <p:spPr>
          <a:xfrm>
            <a:off x="1903680" y="3168720"/>
            <a:ext cx="2741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Normal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lid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4"/>
          <p:cNvSpPr/>
          <p:nvPr/>
        </p:nvSpPr>
        <p:spPr>
          <a:xfrm>
            <a:off x="685800" y="1954080"/>
            <a:ext cx="8610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_____ are boxes that are displayed in a new slid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are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ce box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cehold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 box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lid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4"/>
          <p:cNvSpPr/>
          <p:nvPr/>
        </p:nvSpPr>
        <p:spPr>
          <a:xfrm>
            <a:off x="1911600" y="3168720"/>
            <a:ext cx="4463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Placeholders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aving &amp; Prin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1890360" y="3168720"/>
            <a:ext cx="3044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Title bar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lides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4"/>
          <p:cNvSpPr/>
          <p:nvPr/>
        </p:nvSpPr>
        <p:spPr>
          <a:xfrm>
            <a:off x="152280" y="1828800"/>
            <a:ext cx="8839440" cy="54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three areas are visible in Normal View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, clipart, and outline are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, clipart, and slide view are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/outline pane, slide view, and notes view are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out view, slide view, and notes view area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Slid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4"/>
          <p:cNvSpPr/>
          <p:nvPr/>
        </p:nvSpPr>
        <p:spPr>
          <a:xfrm>
            <a:off x="866880" y="1687680"/>
            <a:ext cx="71420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. Slide/outline pane, slide view, and notes view areas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ibb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4"/>
          <p:cNvSpPr/>
          <p:nvPr/>
        </p:nvSpPr>
        <p:spPr>
          <a:xfrm>
            <a:off x="297000" y="1828800"/>
            <a:ext cx="8594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ders or footers may be applied to the presentation using the command on the _____ Ribbo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er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ibb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4"/>
          <p:cNvSpPr/>
          <p:nvPr/>
        </p:nvSpPr>
        <p:spPr>
          <a:xfrm>
            <a:off x="1652760" y="2144880"/>
            <a:ext cx="5429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insert 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ibb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4"/>
          <p:cNvSpPr/>
          <p:nvPr/>
        </p:nvSpPr>
        <p:spPr>
          <a:xfrm>
            <a:off x="58680" y="2057400"/>
            <a:ext cx="9085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re is the command located to insert clip art or a SmartArt Graphic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me Ribb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s Ribb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r Ribb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ert Ribb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ibb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4"/>
          <p:cNvSpPr/>
          <p:nvPr/>
        </p:nvSpPr>
        <p:spPr>
          <a:xfrm>
            <a:off x="1913400" y="2106720"/>
            <a:ext cx="4767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Insert Ribbon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ibb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4"/>
          <p:cNvSpPr/>
          <p:nvPr/>
        </p:nvSpPr>
        <p:spPr>
          <a:xfrm>
            <a:off x="596880" y="1828800"/>
            <a:ext cx="849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_____ Ribbon includes the proofing tools, comments, and protec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e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ie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ofread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ibb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4"/>
          <p:cNvSpPr/>
          <p:nvPr/>
        </p:nvSpPr>
        <p:spPr>
          <a:xfrm>
            <a:off x="2680560" y="2743200"/>
            <a:ext cx="2741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Review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ibb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4"/>
          <p:cNvSpPr/>
          <p:nvPr/>
        </p:nvSpPr>
        <p:spPr>
          <a:xfrm>
            <a:off x="382680" y="2057400"/>
            <a:ext cx="7943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ch Ribbon allows a picture to be placed on a slid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me Ribb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s Ribb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r Ribb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ert Ribb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ibb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4"/>
          <p:cNvSpPr/>
          <p:nvPr/>
        </p:nvSpPr>
        <p:spPr>
          <a:xfrm>
            <a:off x="1900800" y="3154320"/>
            <a:ext cx="2298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Insert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aving &amp; Prin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4"/>
          <p:cNvSpPr/>
          <p:nvPr/>
        </p:nvSpPr>
        <p:spPr>
          <a:xfrm>
            <a:off x="685800" y="1946160"/>
            <a:ext cx="7772400" cy="42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 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Which of the following characters are allowed in a filenam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? question mar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* aster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_ undersco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: col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ibb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4"/>
          <p:cNvSpPr/>
          <p:nvPr/>
        </p:nvSpPr>
        <p:spPr>
          <a:xfrm>
            <a:off x="409680" y="1905120"/>
            <a:ext cx="8102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ch Ribbon would you choose to begin the process of adding a slide transitio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me Ribb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ert Ribb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-Ins Ribb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itions Ribb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ibbons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4"/>
          <p:cNvSpPr/>
          <p:nvPr/>
        </p:nvSpPr>
        <p:spPr>
          <a:xfrm>
            <a:off x="631440" y="2971800"/>
            <a:ext cx="8347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Transition Ribbon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Effec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4"/>
          <p:cNvSpPr/>
          <p:nvPr/>
        </p:nvSpPr>
        <p:spPr>
          <a:xfrm>
            <a:off x="380880" y="1828800"/>
            <a:ext cx="8305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_____ are used to liven up the presentation, hold the audience’s attentions, and emphasize point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ou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imations or effec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Effec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4"/>
          <p:cNvSpPr/>
          <p:nvPr/>
        </p:nvSpPr>
        <p:spPr>
          <a:xfrm>
            <a:off x="259200" y="2438280"/>
            <a:ext cx="7901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imations or effects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Effec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4"/>
          <p:cNvSpPr/>
          <p:nvPr/>
        </p:nvSpPr>
        <p:spPr>
          <a:xfrm>
            <a:off x="801720" y="1828800"/>
            <a:ext cx="7961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ch of the following is not considered formatting tex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ing the font styl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ll Check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ing a bord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ing the font siz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Effec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4"/>
          <p:cNvSpPr/>
          <p:nvPr/>
        </p:nvSpPr>
        <p:spPr>
          <a:xfrm>
            <a:off x="859320" y="2522520"/>
            <a:ext cx="423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Spell checking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Effec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4"/>
          <p:cNvSpPr/>
          <p:nvPr/>
        </p:nvSpPr>
        <p:spPr>
          <a:xfrm>
            <a:off x="1066680" y="1828800"/>
            <a:ext cx="6767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ch of the following is NOT one of the general types of animation used in PowerPoin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li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ra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i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Effec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4"/>
          <p:cNvSpPr/>
          <p:nvPr/>
        </p:nvSpPr>
        <p:spPr>
          <a:xfrm>
            <a:off x="2607480" y="2209680"/>
            <a:ext cx="318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Sublime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Effec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4"/>
          <p:cNvSpPr/>
          <p:nvPr/>
        </p:nvSpPr>
        <p:spPr>
          <a:xfrm>
            <a:off x="380880" y="1600200"/>
            <a:ext cx="8305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w can clip art be recolore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ose recolor from the Format dialog box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ose fill color from the Drawing Tools Format Ribb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ose shape fill form the Drawing Tools Format Ribb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p art cannot be recolore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Effec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4"/>
          <p:cNvSpPr/>
          <p:nvPr/>
        </p:nvSpPr>
        <p:spPr>
          <a:xfrm>
            <a:off x="411840" y="2451240"/>
            <a:ext cx="65278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ose recolor </a:t>
            </a:r>
            <a:br>
              <a:rPr sz="6600"/>
            </a:br>
            <a:r>
              <a:rPr b="0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Format </a:t>
            </a:r>
            <a:br>
              <a:rPr sz="6600"/>
            </a:br>
            <a:r>
              <a:rPr b="0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alog box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aving &amp; Prin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1"/>
          <p:cNvSpPr/>
          <p:nvPr/>
        </p:nvSpPr>
        <p:spPr>
          <a:xfrm>
            <a:off x="2234520" y="3105000"/>
            <a:ext cx="4943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_ underscore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Effec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4"/>
          <p:cNvSpPr/>
          <p:nvPr/>
        </p:nvSpPr>
        <p:spPr>
          <a:xfrm>
            <a:off x="380880" y="1752480"/>
            <a:ext cx="8696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the most common format of sound files used in PowerPoin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P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P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V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P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Effec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4"/>
          <p:cNvSpPr/>
          <p:nvPr/>
        </p:nvSpPr>
        <p:spPr>
          <a:xfrm>
            <a:off x="1768680" y="3168720"/>
            <a:ext cx="2847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WAV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152280" y="1495440"/>
            <a:ext cx="876312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_____ is located directly above the Home Ribbon Tab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ick Access Toolba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dard Toolba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rtcut Men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on Toolba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much is your team betting on this question?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final_Q.wav" descr=""/>
          <p:cNvPicPr/>
          <p:nvPr/>
        </p:nvPicPr>
        <p:blipFill>
          <a:blip r:embed="rId1"/>
          <a:stretch/>
        </p:blipFill>
        <p:spPr>
          <a:xfrm>
            <a:off x="7467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m_button"/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49" nodeType="clickEffect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 Answe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366480" y="2286000"/>
            <a:ext cx="721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A- Quick Access Toolba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0" name="Picture 4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aving &amp; Prin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195120" y="1295280"/>
            <a:ext cx="895824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the presentation in _____ will conserve ink and may be selected using the Print What area of the Print dialog box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ysca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 slides per pa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aving &amp; Prin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"/>
          <p:cNvSpPr/>
          <p:nvPr/>
        </p:nvSpPr>
        <p:spPr>
          <a:xfrm>
            <a:off x="1906560" y="3168720"/>
            <a:ext cx="3530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Grayscale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44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aving &amp; Prin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>
            <a:off x="380880" y="1295280"/>
            <a:ext cx="815364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_____ area of the print dialog box allows the users to select the slide numbers or slide range to prin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 ran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 wh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ou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aving &amp; Prin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1544040" y="2611440"/>
            <a:ext cx="3882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Print range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Paige Haney</cp:lastModifiedBy>
  <dcterms:modified xsi:type="dcterms:W3CDTF">2011-11-02T02:32:00Z</dcterms:modified>
  <cp:revision>98</cp:revision>
  <dc:subject/>
  <dc:title>Jeopardy</dc:title>
</cp:coreProperties>
</file>